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9AF3-1D13-4804-ABF6-786BEEB43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59D8-9C17-4B33-A505-A346F3520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5E34-7558-46CB-8913-D975FEAC7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D0A2-2481-46F8-B1E7-D96482A22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0772-CFC6-4824-91E4-165873673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3C2C-B67E-4232-BAC4-CB6E1B2A7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FB60-3BCA-45C3-9C32-E1E36F787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3695-6388-43C1-962A-4E970775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EE2E-E975-4263-80A3-1BAEABF64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FDB-DCB7-4F5E-AE85-CD4948CD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ABA-F230-4311-A30E-A6746B82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1624-B3E3-46B7-8CB9-A5F89F04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FFE-1101-475B-B207-1989C940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9A0-7816-441C-9417-404FB85A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6C9-F2F2-4862-BF6D-840F44A9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694-C2F4-4749-8663-DE975867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8BA-8E2F-4AD5-90B4-C2956B2D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E68-AEC6-4D75-827B-C6ECDE7B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A23-38F1-4AAA-90F0-F003AC2A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9CE-E5E9-4068-B486-C482A68C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9FB-7069-4C5B-9F9A-98CE8F0C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2405-7F54-454D-B4C8-37511085E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ome.comcast.net/~dutchiebop/eggs.wav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ome.comcast.net/~dutchiebop/geez.wav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ome.comcast.net/~dutchiebop/Audio_Amos_Favorite_Seventies_Music.mp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ome.comcast.net/~dutchiebop/cider.wav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ome.comcast.net/~dutchiebop/jfk.wav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ospitalitymagazine.com.au/.../468191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NOTE PRESENTA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iew with Amos Wartluft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d by Heidi Swa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PCT1449"/>
          <p:cNvPicPr/>
          <p:nvPr/>
        </p:nvPicPr>
        <p:blipFill>
          <a:blip r:embed="rId1"/>
          <a:stretch/>
        </p:blipFill>
        <p:spPr>
          <a:xfrm>
            <a:off x="3124080" y="1676520"/>
            <a:ext cx="2959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s Wartluft is from the Pennsylvania Dutch Country of Lancaster County, Pennsylvani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The Amish At Work 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1897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ap2"/>
          <p:cNvPicPr/>
          <p:nvPr/>
        </p:nvPicPr>
        <p:blipFill>
          <a:blip r:embed="rId2"/>
          <a:stretch/>
        </p:blipFill>
        <p:spPr>
          <a:xfrm>
            <a:off x="3886200" y="2133720"/>
            <a:ext cx="4876920" cy="4360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228600" y="35053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continues the tradition of farming.  It is important for him to live in a rural environment in order to follow the lifestyle of his convi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Like Your Egg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egg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1337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you tell us about the changing of seasons where you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now-gee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209680"/>
            <a:ext cx="5238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your favorite music from the seven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wpf54bebf8_0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67652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give us a tip for making apple ci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i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523880"/>
            <a:ext cx="4330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think of converti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rezCarJFK%27s-T-Bir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905120"/>
            <a:ext cx="762012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cks in egg safety knowledge. (2009, February 19). Retrieved June 17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, from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spitalitymagazine.com.au/.../468191.asp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n, R. (2009). Senior amish man at Ohio auction in Walnut Creek a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rmers market stock photo.  Retrieved June 17, 2009,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worldofstock.com/closeups/PCT1449.ph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t maple apple cider. (2008, January).  Retrieved June 17, 2009,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sover.net/~buckholl/january2008.ht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caster County- a great place to live! (n.d.) Retrieved June 17, 2009,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stonebldg.com/lancast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your feet to the ’60s and ’70s beat. (2008). Retrieved June 17, 2009,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thevintagecorporation.co.uk/page38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ott, J. (2005, July 17).  V-formation flight of birds.  Retrieved June 17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www.aerospaceweb.org/question/Nature/q0237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mish and the plain people.  (2008).  Retrieved June 17, 2009,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800padutch.com/amish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drives American presidents.  (2008, October 22).  Retrieved June 17, 2009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http://weblog.signonsandiego.com/weblog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rage/2008/10/what_drives_american_presi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4:40:06Z</dcterms:created>
  <dc:creator>Mooreland Heights Elementary School </dc:creator>
  <dc:description/>
  <dc:language>en-US</dc:language>
  <cp:lastModifiedBy>MComer</cp:lastModifiedBy>
  <dcterms:modified xsi:type="dcterms:W3CDTF">2011-06-21T16:10:05Z</dcterms:modified>
  <cp:revision>17</cp:revision>
  <dc:subject/>
  <dc:title>Slide 1</dc:title>
</cp:coreProperties>
</file>